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ct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2895480"/>
            <a:ext cx="7848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e literal equations and formulas for a specified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s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PQuestion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Solve for y: 4x – 2y =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“the riv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4x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oth sides by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it simplif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600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0000"/>
          </a:bodyPr>
          <a:p>
            <a:pPr marL="243720" indent="-243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4x            - 4x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2y = 12 – 4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2      -2   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y = 2x -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96704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81840" y="1023840"/>
            <a:ext cx="0" cy="4386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438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320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3200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V - W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The formula for the volume of a rectangular prism is V = LWH. Which equation solves the formula for 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2590920"/>
          <a:ext cx="1393920" cy="102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139392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066680" y="3622680"/>
          <a:ext cx="147492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622680"/>
                    <a:ext cx="14749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066680" y="4583160"/>
          <a:ext cx="15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583160"/>
                    <a:ext cx="15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456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CorShape1"/>
          <p:cNvSpPr/>
          <p:nvPr/>
        </p:nvSpPr>
        <p:spPr>
          <a:xfrm rot="10800000">
            <a:off x="164880" y="48765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AnswerNow"/>
          <p:cNvGrpSpPr/>
          <p:nvPr/>
        </p:nvGrpSpPr>
        <p:grpSpPr>
          <a:xfrm>
            <a:off x="2806560" y="5499000"/>
            <a:ext cx="2222640" cy="444240"/>
            <a:chOff x="2806560" y="5499000"/>
            <a:chExt cx="2222640" cy="444240"/>
          </a:xfrm>
        </p:grpSpPr>
        <p:sp>
          <p:nvSpPr>
            <p:cNvPr id="120" name="ANShape"/>
            <p:cNvSpPr/>
            <p:nvPr/>
          </p:nvSpPr>
          <p:spPr>
            <a:xfrm>
              <a:off x="2806560" y="549900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NText"/>
            <p:cNvSpPr/>
            <p:nvPr/>
          </p:nvSpPr>
          <p:spPr>
            <a:xfrm>
              <a:off x="2806560" y="549900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3V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) The formula for the volume of a pyramid is V =       . Which equation solves the formula for 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6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rShape1"/>
          <p:cNvSpPr/>
          <p:nvPr/>
        </p:nvSpPr>
        <p:spPr>
          <a:xfrm rot="10800000">
            <a:off x="164880" y="38858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2806560" y="5499000"/>
            <a:ext cx="2222640" cy="444240"/>
            <a:chOff x="2806560" y="5499000"/>
            <a:chExt cx="2222640" cy="444240"/>
          </a:xfrm>
        </p:grpSpPr>
        <p:sp>
          <p:nvSpPr>
            <p:cNvPr id="127" name="ANShape"/>
            <p:cNvSpPr/>
            <p:nvPr/>
          </p:nvSpPr>
          <p:spPr>
            <a:xfrm>
              <a:off x="2806560" y="549900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NText"/>
            <p:cNvSpPr/>
            <p:nvPr/>
          </p:nvSpPr>
          <p:spPr>
            <a:xfrm>
              <a:off x="2806560" y="549900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09680" y="762120"/>
          <a:ext cx="8128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762120"/>
                    <a:ext cx="8128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2635200"/>
          <a:ext cx="12193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635200"/>
                    <a:ext cx="1219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3624120"/>
          <a:ext cx="12956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624120"/>
                    <a:ext cx="1295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66680" y="4592520"/>
          <a:ext cx="12193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4592520"/>
                    <a:ext cx="1219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Solve  2x - 4y = 7 for 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x by itself, what is the first ste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2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ract 2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4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ract 4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CorShape1"/>
          <p:cNvSpPr/>
          <p:nvPr/>
        </p:nvSpPr>
        <p:spPr>
          <a:xfrm rot="10800000">
            <a:off x="329760" y="3746160"/>
            <a:ext cx="444600" cy="4446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AnswerNow"/>
          <p:cNvGrpSpPr/>
          <p:nvPr/>
        </p:nvGrpSpPr>
        <p:grpSpPr>
          <a:xfrm>
            <a:off x="1143000" y="5410080"/>
            <a:ext cx="2222640" cy="444240"/>
            <a:chOff x="1143000" y="5410080"/>
            <a:chExt cx="2222640" cy="444240"/>
          </a:xfrm>
        </p:grpSpPr>
        <p:sp>
          <p:nvSpPr>
            <p:cNvPr id="44" name="ANShape"/>
            <p:cNvSpPr/>
            <p:nvPr/>
          </p:nvSpPr>
          <p:spPr>
            <a:xfrm>
              <a:off x="1143000" y="54100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NText"/>
            <p:cNvSpPr/>
            <p:nvPr/>
          </p:nvSpPr>
          <p:spPr>
            <a:xfrm>
              <a:off x="1143000" y="54100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Solve 2x - 4y = 7 for 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8534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Solve 2x - 4y = 7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“the riv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4y to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oth sides by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it simplif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44792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4y   + 4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 7 + 4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       2    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8534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70720" y="907920"/>
            <a:ext cx="0" cy="381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2096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048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419720" y="4419720"/>
          <a:ext cx="434340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419720"/>
                    <a:ext cx="43434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934320" y="3048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Solve  2x - 4y = 7 for 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y by itself, what is the first ste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2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ract 2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4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ract 4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rShape1"/>
          <p:cNvSpPr/>
          <p:nvPr/>
        </p:nvSpPr>
        <p:spPr>
          <a:xfrm rot="10800000">
            <a:off x="329760" y="2971440"/>
            <a:ext cx="444600" cy="4446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AnswerNow"/>
          <p:cNvGrpSpPr/>
          <p:nvPr/>
        </p:nvGrpSpPr>
        <p:grpSpPr>
          <a:xfrm>
            <a:off x="1143000" y="5410080"/>
            <a:ext cx="2222640" cy="444240"/>
            <a:chOff x="1143000" y="5410080"/>
            <a:chExt cx="2222640" cy="444240"/>
          </a:xfrm>
        </p:grpSpPr>
        <p:sp>
          <p:nvSpPr>
            <p:cNvPr id="63" name="ANShape"/>
            <p:cNvSpPr/>
            <p:nvPr/>
          </p:nvSpPr>
          <p:spPr>
            <a:xfrm>
              <a:off x="1143000" y="54100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NText"/>
            <p:cNvSpPr/>
            <p:nvPr/>
          </p:nvSpPr>
          <p:spPr>
            <a:xfrm>
              <a:off x="1143000" y="54100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Solve  2x - 4y = 7 for 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“the riv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2x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oth sides by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it simplif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44792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2x         - 2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4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7 - 2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4    -4    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96704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520" y="907920"/>
            <a:ext cx="0" cy="3816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3048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724280" y="4800600"/>
          <a:ext cx="2741760" cy="15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800600"/>
                    <a:ext cx="27417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Solve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y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first ste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733920" y="181080"/>
          <a:ext cx="228600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1080"/>
                    <a:ext cx="22860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 rot="10800000">
            <a:off x="757080" y="212220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1143000" y="5410080"/>
            <a:ext cx="2222640" cy="444240"/>
            <a:chOff x="1143000" y="5410080"/>
            <a:chExt cx="2222640" cy="444240"/>
          </a:xfrm>
        </p:grpSpPr>
        <p:sp>
          <p:nvSpPr>
            <p:cNvPr id="82" name="ANShape"/>
            <p:cNvSpPr/>
            <p:nvPr/>
          </p:nvSpPr>
          <p:spPr>
            <a:xfrm>
              <a:off x="1143000" y="54100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1143000" y="54100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Solve for 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105520" y="609480"/>
          <a:ext cx="228600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609480"/>
                    <a:ext cx="228600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“the riv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the fraction – multiply both sides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a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8640" y="3048120"/>
            <a:ext cx="4114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+ a = 3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     -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y = 3c -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96704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37400" y="1023840"/>
            <a:ext cx="0" cy="42339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21000" y="1752480"/>
          <a:ext cx="3989520" cy="14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21000" y="1752480"/>
                    <a:ext cx="39895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Solve for y: 4x – 2y =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4x +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x -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2x +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x -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rShape1"/>
          <p:cNvSpPr/>
          <p:nvPr/>
        </p:nvSpPr>
        <p:spPr>
          <a:xfrm rot="10800000">
            <a:off x="421920" y="4111200"/>
            <a:ext cx="330120" cy="3301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AnswerNow"/>
          <p:cNvGrpSpPr/>
          <p:nvPr/>
        </p:nvGrpSpPr>
        <p:grpSpPr>
          <a:xfrm>
            <a:off x="1143000" y="5410080"/>
            <a:ext cx="2222640" cy="444240"/>
            <a:chOff x="1143000" y="5410080"/>
            <a:chExt cx="2222640" cy="444240"/>
          </a:xfrm>
        </p:grpSpPr>
        <p:sp>
          <p:nvSpPr>
            <p:cNvPr id="98" name="ANShape"/>
            <p:cNvSpPr/>
            <p:nvPr/>
          </p:nvSpPr>
          <p:spPr>
            <a:xfrm>
              <a:off x="1143000" y="54100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NText"/>
            <p:cNvSpPr/>
            <p:nvPr/>
          </p:nvSpPr>
          <p:spPr>
            <a:xfrm>
              <a:off x="1143000" y="54100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4T18:24:24Z</dcterms:created>
  <dc:creator>Skip Tyler</dc:creator>
  <dc:description/>
  <cp:keywords/>
  <dc:language>en-US</dc:language>
  <cp:lastModifiedBy>Parkland High School</cp:lastModifiedBy>
  <cp:lastPrinted>2009-04-22T19:24:48Z</cp:lastPrinted>
  <dcterms:modified xsi:type="dcterms:W3CDTF">2010-10-07T12:24:01Z</dcterms:modified>
  <cp:revision>47</cp:revision>
  <dc:subject/>
  <dc:title>Literal Equations</dc:title>
</cp:coreProperties>
</file>